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8C7F-A6BF-4ACA-9A10-77C19599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1AA-5344-48B2-AAFD-16A4CB11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5533-F8FE-4B39-9B42-7A4580BE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32D-78E6-43C1-B4B0-B68C3A75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098-4358-45F7-A9B6-AC48F2B3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512-253B-4258-A471-7991210A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60F6-A23B-412B-B38F-16C8AC17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89BD-9A05-4E72-BA47-FC98BF35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41B-8273-4144-8223-3A90E24D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5BF-B3FF-44BD-960C-86B28765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A3A-FB13-4B70-9043-B31E6DE6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461-1DF6-451C-BCFD-45418C7B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693900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63EF-A692-41C1-9775-58596C98C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49400" y="1071720"/>
            <a:ext cx="5321520" cy="3074760"/>
          </a:xfrm>
          <a:custGeom>
            <a:avLst/>
            <a:gdLst/>
            <a:ahLst/>
            <a:rect l="l" t="t" r="r" b="b"/>
            <a:pathLst>
              <a:path w="3352" h="1937">
                <a:moveTo>
                  <a:pt x="2404" y="365"/>
                </a:moveTo>
                <a:lnTo>
                  <a:pt x="2170" y="420"/>
                </a:lnTo>
                <a:lnTo>
                  <a:pt x="2074" y="465"/>
                </a:lnTo>
                <a:lnTo>
                  <a:pt x="1982" y="523"/>
                </a:lnTo>
                <a:lnTo>
                  <a:pt x="1894" y="590"/>
                </a:lnTo>
                <a:lnTo>
                  <a:pt x="1830" y="642"/>
                </a:lnTo>
                <a:lnTo>
                  <a:pt x="1783" y="684"/>
                </a:lnTo>
                <a:lnTo>
                  <a:pt x="1747" y="719"/>
                </a:lnTo>
                <a:lnTo>
                  <a:pt x="1734" y="769"/>
                </a:lnTo>
                <a:lnTo>
                  <a:pt x="1736" y="829"/>
                </a:lnTo>
                <a:lnTo>
                  <a:pt x="1748" y="896"/>
                </a:lnTo>
                <a:lnTo>
                  <a:pt x="1762" y="942"/>
                </a:lnTo>
                <a:lnTo>
                  <a:pt x="1778" y="974"/>
                </a:lnTo>
                <a:lnTo>
                  <a:pt x="1795" y="998"/>
                </a:lnTo>
                <a:lnTo>
                  <a:pt x="1820" y="1015"/>
                </a:lnTo>
                <a:lnTo>
                  <a:pt x="1886" y="1035"/>
                </a:lnTo>
                <a:lnTo>
                  <a:pt x="1969" y="1048"/>
                </a:lnTo>
                <a:lnTo>
                  <a:pt x="2035" y="1051"/>
                </a:lnTo>
                <a:lnTo>
                  <a:pt x="2081" y="1043"/>
                </a:lnTo>
                <a:lnTo>
                  <a:pt x="2184" y="1013"/>
                </a:lnTo>
                <a:lnTo>
                  <a:pt x="2250" y="985"/>
                </a:lnTo>
                <a:lnTo>
                  <a:pt x="2339" y="933"/>
                </a:lnTo>
                <a:lnTo>
                  <a:pt x="2385" y="896"/>
                </a:lnTo>
                <a:lnTo>
                  <a:pt x="2435" y="844"/>
                </a:lnTo>
                <a:lnTo>
                  <a:pt x="2451" y="825"/>
                </a:lnTo>
                <a:lnTo>
                  <a:pt x="2474" y="774"/>
                </a:lnTo>
                <a:lnTo>
                  <a:pt x="2489" y="718"/>
                </a:lnTo>
                <a:lnTo>
                  <a:pt x="2495" y="669"/>
                </a:lnTo>
                <a:lnTo>
                  <a:pt x="2494" y="618"/>
                </a:lnTo>
                <a:lnTo>
                  <a:pt x="2476" y="581"/>
                </a:lnTo>
                <a:lnTo>
                  <a:pt x="2441" y="522"/>
                </a:lnTo>
                <a:lnTo>
                  <a:pt x="2420" y="489"/>
                </a:lnTo>
                <a:lnTo>
                  <a:pt x="2396" y="462"/>
                </a:lnTo>
                <a:lnTo>
                  <a:pt x="2347" y="436"/>
                </a:lnTo>
                <a:lnTo>
                  <a:pt x="2261" y="406"/>
                </a:lnTo>
                <a:lnTo>
                  <a:pt x="2206" y="397"/>
                </a:lnTo>
                <a:lnTo>
                  <a:pt x="2105" y="393"/>
                </a:lnTo>
                <a:lnTo>
                  <a:pt x="2042" y="402"/>
                </a:lnTo>
                <a:lnTo>
                  <a:pt x="2007" y="412"/>
                </a:lnTo>
                <a:lnTo>
                  <a:pt x="1971" y="431"/>
                </a:lnTo>
                <a:lnTo>
                  <a:pt x="1932" y="462"/>
                </a:lnTo>
                <a:lnTo>
                  <a:pt x="1889" y="508"/>
                </a:lnTo>
                <a:lnTo>
                  <a:pt x="1859" y="552"/>
                </a:lnTo>
                <a:lnTo>
                  <a:pt x="1832" y="609"/>
                </a:lnTo>
                <a:lnTo>
                  <a:pt x="1818" y="652"/>
                </a:lnTo>
                <a:lnTo>
                  <a:pt x="1811" y="684"/>
                </a:lnTo>
                <a:lnTo>
                  <a:pt x="1803" y="719"/>
                </a:lnTo>
                <a:lnTo>
                  <a:pt x="1792" y="774"/>
                </a:lnTo>
                <a:lnTo>
                  <a:pt x="1784" y="831"/>
                </a:lnTo>
                <a:lnTo>
                  <a:pt x="1781" y="887"/>
                </a:lnTo>
                <a:lnTo>
                  <a:pt x="1784" y="897"/>
                </a:lnTo>
                <a:lnTo>
                  <a:pt x="1790" y="904"/>
                </a:lnTo>
                <a:lnTo>
                  <a:pt x="1797" y="908"/>
                </a:lnTo>
                <a:lnTo>
                  <a:pt x="1803" y="908"/>
                </a:lnTo>
                <a:lnTo>
                  <a:pt x="1808" y="906"/>
                </a:lnTo>
                <a:lnTo>
                  <a:pt x="1817" y="897"/>
                </a:lnTo>
                <a:lnTo>
                  <a:pt x="1837" y="881"/>
                </a:lnTo>
                <a:lnTo>
                  <a:pt x="1848" y="867"/>
                </a:lnTo>
                <a:lnTo>
                  <a:pt x="1876" y="813"/>
                </a:lnTo>
                <a:lnTo>
                  <a:pt x="1888" y="785"/>
                </a:lnTo>
                <a:lnTo>
                  <a:pt x="1895" y="753"/>
                </a:lnTo>
                <a:lnTo>
                  <a:pt x="1898" y="704"/>
                </a:lnTo>
                <a:lnTo>
                  <a:pt x="1900" y="655"/>
                </a:lnTo>
                <a:lnTo>
                  <a:pt x="1898" y="616"/>
                </a:lnTo>
                <a:lnTo>
                  <a:pt x="1891" y="574"/>
                </a:lnTo>
                <a:lnTo>
                  <a:pt x="1878" y="530"/>
                </a:lnTo>
                <a:lnTo>
                  <a:pt x="1857" y="484"/>
                </a:lnTo>
                <a:lnTo>
                  <a:pt x="1827" y="436"/>
                </a:lnTo>
                <a:lnTo>
                  <a:pt x="1800" y="393"/>
                </a:lnTo>
                <a:lnTo>
                  <a:pt x="1774" y="355"/>
                </a:lnTo>
                <a:lnTo>
                  <a:pt x="1741" y="319"/>
                </a:lnTo>
                <a:lnTo>
                  <a:pt x="1646" y="261"/>
                </a:lnTo>
                <a:lnTo>
                  <a:pt x="1560" y="229"/>
                </a:lnTo>
                <a:lnTo>
                  <a:pt x="1485" y="218"/>
                </a:lnTo>
                <a:lnTo>
                  <a:pt x="1408" y="217"/>
                </a:lnTo>
                <a:lnTo>
                  <a:pt x="1322" y="223"/>
                </a:lnTo>
                <a:lnTo>
                  <a:pt x="1229" y="246"/>
                </a:lnTo>
                <a:lnTo>
                  <a:pt x="1176" y="265"/>
                </a:lnTo>
                <a:lnTo>
                  <a:pt x="1112" y="307"/>
                </a:lnTo>
                <a:lnTo>
                  <a:pt x="991" y="398"/>
                </a:lnTo>
                <a:lnTo>
                  <a:pt x="956" y="444"/>
                </a:lnTo>
                <a:lnTo>
                  <a:pt x="928" y="499"/>
                </a:lnTo>
                <a:lnTo>
                  <a:pt x="914" y="533"/>
                </a:lnTo>
                <a:lnTo>
                  <a:pt x="898" y="570"/>
                </a:lnTo>
                <a:lnTo>
                  <a:pt x="881" y="621"/>
                </a:lnTo>
                <a:lnTo>
                  <a:pt x="871" y="679"/>
                </a:lnTo>
                <a:lnTo>
                  <a:pt x="875" y="689"/>
                </a:lnTo>
                <a:lnTo>
                  <a:pt x="883" y="698"/>
                </a:lnTo>
                <a:lnTo>
                  <a:pt x="894" y="707"/>
                </a:lnTo>
                <a:lnTo>
                  <a:pt x="906" y="713"/>
                </a:lnTo>
                <a:lnTo>
                  <a:pt x="931" y="720"/>
                </a:lnTo>
                <a:lnTo>
                  <a:pt x="1008" y="706"/>
                </a:lnTo>
                <a:lnTo>
                  <a:pt x="1071" y="684"/>
                </a:lnTo>
                <a:lnTo>
                  <a:pt x="1159" y="635"/>
                </a:lnTo>
                <a:lnTo>
                  <a:pt x="1200" y="604"/>
                </a:lnTo>
                <a:lnTo>
                  <a:pt x="1227" y="573"/>
                </a:lnTo>
                <a:lnTo>
                  <a:pt x="1243" y="543"/>
                </a:lnTo>
                <a:lnTo>
                  <a:pt x="1249" y="529"/>
                </a:lnTo>
                <a:lnTo>
                  <a:pt x="1255" y="490"/>
                </a:lnTo>
                <a:lnTo>
                  <a:pt x="1257" y="467"/>
                </a:lnTo>
                <a:lnTo>
                  <a:pt x="1251" y="430"/>
                </a:lnTo>
                <a:lnTo>
                  <a:pt x="1238" y="396"/>
                </a:lnTo>
                <a:lnTo>
                  <a:pt x="1218" y="361"/>
                </a:lnTo>
                <a:lnTo>
                  <a:pt x="1165" y="322"/>
                </a:lnTo>
                <a:lnTo>
                  <a:pt x="1097" y="287"/>
                </a:lnTo>
                <a:lnTo>
                  <a:pt x="1034" y="269"/>
                </a:lnTo>
                <a:lnTo>
                  <a:pt x="940" y="253"/>
                </a:lnTo>
                <a:lnTo>
                  <a:pt x="884" y="245"/>
                </a:lnTo>
                <a:lnTo>
                  <a:pt x="789" y="236"/>
                </a:lnTo>
                <a:lnTo>
                  <a:pt x="704" y="235"/>
                </a:lnTo>
                <a:lnTo>
                  <a:pt x="622" y="243"/>
                </a:lnTo>
                <a:lnTo>
                  <a:pt x="517" y="272"/>
                </a:lnTo>
                <a:lnTo>
                  <a:pt x="458" y="293"/>
                </a:lnTo>
                <a:lnTo>
                  <a:pt x="369" y="336"/>
                </a:lnTo>
                <a:lnTo>
                  <a:pt x="299" y="382"/>
                </a:lnTo>
                <a:lnTo>
                  <a:pt x="239" y="425"/>
                </a:lnTo>
                <a:lnTo>
                  <a:pt x="185" y="473"/>
                </a:lnTo>
                <a:lnTo>
                  <a:pt x="137" y="527"/>
                </a:lnTo>
                <a:lnTo>
                  <a:pt x="117" y="557"/>
                </a:lnTo>
                <a:lnTo>
                  <a:pt x="41" y="685"/>
                </a:lnTo>
                <a:lnTo>
                  <a:pt x="28" y="717"/>
                </a:lnTo>
                <a:lnTo>
                  <a:pt x="18" y="749"/>
                </a:lnTo>
                <a:lnTo>
                  <a:pt x="11" y="781"/>
                </a:lnTo>
                <a:lnTo>
                  <a:pt x="6" y="823"/>
                </a:lnTo>
                <a:lnTo>
                  <a:pt x="3" y="871"/>
                </a:lnTo>
                <a:lnTo>
                  <a:pt x="0" y="924"/>
                </a:lnTo>
                <a:lnTo>
                  <a:pt x="2" y="968"/>
                </a:lnTo>
                <a:lnTo>
                  <a:pt x="7" y="1006"/>
                </a:lnTo>
                <a:lnTo>
                  <a:pt x="14" y="1040"/>
                </a:lnTo>
                <a:lnTo>
                  <a:pt x="22" y="1073"/>
                </a:lnTo>
                <a:lnTo>
                  <a:pt x="31" y="1105"/>
                </a:lnTo>
                <a:lnTo>
                  <a:pt x="41" y="1135"/>
                </a:lnTo>
                <a:lnTo>
                  <a:pt x="61" y="1169"/>
                </a:lnTo>
                <a:lnTo>
                  <a:pt x="87" y="1205"/>
                </a:lnTo>
                <a:lnTo>
                  <a:pt x="118" y="1242"/>
                </a:lnTo>
                <a:lnTo>
                  <a:pt x="171" y="1296"/>
                </a:lnTo>
                <a:lnTo>
                  <a:pt x="222" y="1334"/>
                </a:lnTo>
                <a:lnTo>
                  <a:pt x="281" y="1366"/>
                </a:lnTo>
                <a:lnTo>
                  <a:pt x="373" y="1395"/>
                </a:lnTo>
                <a:lnTo>
                  <a:pt x="476" y="1419"/>
                </a:lnTo>
                <a:lnTo>
                  <a:pt x="558" y="1433"/>
                </a:lnTo>
                <a:lnTo>
                  <a:pt x="656" y="1430"/>
                </a:lnTo>
                <a:lnTo>
                  <a:pt x="711" y="1424"/>
                </a:lnTo>
                <a:lnTo>
                  <a:pt x="741" y="1428"/>
                </a:lnTo>
                <a:lnTo>
                  <a:pt x="755" y="1437"/>
                </a:lnTo>
                <a:lnTo>
                  <a:pt x="758" y="1450"/>
                </a:lnTo>
                <a:lnTo>
                  <a:pt x="768" y="1456"/>
                </a:lnTo>
                <a:lnTo>
                  <a:pt x="783" y="1456"/>
                </a:lnTo>
                <a:lnTo>
                  <a:pt x="800" y="1452"/>
                </a:lnTo>
                <a:lnTo>
                  <a:pt x="842" y="1429"/>
                </a:lnTo>
                <a:lnTo>
                  <a:pt x="892" y="1388"/>
                </a:lnTo>
                <a:lnTo>
                  <a:pt x="924" y="1357"/>
                </a:lnTo>
                <a:lnTo>
                  <a:pt x="959" y="1323"/>
                </a:lnTo>
                <a:lnTo>
                  <a:pt x="1002" y="1270"/>
                </a:lnTo>
                <a:lnTo>
                  <a:pt x="1026" y="1228"/>
                </a:lnTo>
                <a:lnTo>
                  <a:pt x="1040" y="1188"/>
                </a:lnTo>
                <a:lnTo>
                  <a:pt x="1044" y="1140"/>
                </a:lnTo>
                <a:lnTo>
                  <a:pt x="1044" y="1114"/>
                </a:lnTo>
                <a:lnTo>
                  <a:pt x="1039" y="1092"/>
                </a:lnTo>
                <a:lnTo>
                  <a:pt x="1019" y="1055"/>
                </a:lnTo>
                <a:lnTo>
                  <a:pt x="1004" y="1042"/>
                </a:lnTo>
                <a:lnTo>
                  <a:pt x="969" y="1023"/>
                </a:lnTo>
                <a:lnTo>
                  <a:pt x="900" y="1006"/>
                </a:lnTo>
                <a:lnTo>
                  <a:pt x="841" y="1004"/>
                </a:lnTo>
                <a:lnTo>
                  <a:pt x="809" y="1012"/>
                </a:lnTo>
                <a:lnTo>
                  <a:pt x="794" y="1017"/>
                </a:lnTo>
                <a:lnTo>
                  <a:pt x="763" y="1048"/>
                </a:lnTo>
                <a:lnTo>
                  <a:pt x="736" y="1087"/>
                </a:lnTo>
                <a:lnTo>
                  <a:pt x="721" y="1122"/>
                </a:lnTo>
                <a:lnTo>
                  <a:pt x="719" y="1175"/>
                </a:lnTo>
                <a:lnTo>
                  <a:pt x="725" y="1233"/>
                </a:lnTo>
                <a:lnTo>
                  <a:pt x="740" y="1280"/>
                </a:lnTo>
                <a:lnTo>
                  <a:pt x="761" y="1322"/>
                </a:lnTo>
                <a:lnTo>
                  <a:pt x="772" y="1341"/>
                </a:lnTo>
                <a:lnTo>
                  <a:pt x="826" y="1392"/>
                </a:lnTo>
                <a:lnTo>
                  <a:pt x="895" y="1445"/>
                </a:lnTo>
                <a:lnTo>
                  <a:pt x="958" y="1490"/>
                </a:lnTo>
                <a:lnTo>
                  <a:pt x="1016" y="1519"/>
                </a:lnTo>
                <a:lnTo>
                  <a:pt x="1120" y="1552"/>
                </a:lnTo>
                <a:lnTo>
                  <a:pt x="1205" y="1572"/>
                </a:lnTo>
                <a:lnTo>
                  <a:pt x="1281" y="1582"/>
                </a:lnTo>
                <a:lnTo>
                  <a:pt x="1372" y="1587"/>
                </a:lnTo>
                <a:lnTo>
                  <a:pt x="1422" y="1583"/>
                </a:lnTo>
                <a:lnTo>
                  <a:pt x="1486" y="1576"/>
                </a:lnTo>
                <a:lnTo>
                  <a:pt x="1560" y="1567"/>
                </a:lnTo>
                <a:lnTo>
                  <a:pt x="1619" y="1558"/>
                </a:lnTo>
                <a:lnTo>
                  <a:pt x="1711" y="1537"/>
                </a:lnTo>
                <a:lnTo>
                  <a:pt x="1791" y="1507"/>
                </a:lnTo>
                <a:lnTo>
                  <a:pt x="1860" y="1472"/>
                </a:lnTo>
                <a:lnTo>
                  <a:pt x="1937" y="1411"/>
                </a:lnTo>
                <a:lnTo>
                  <a:pt x="1944" y="1399"/>
                </a:lnTo>
                <a:lnTo>
                  <a:pt x="1955" y="1367"/>
                </a:lnTo>
                <a:lnTo>
                  <a:pt x="1957" y="1341"/>
                </a:lnTo>
                <a:lnTo>
                  <a:pt x="1957" y="1330"/>
                </a:lnTo>
                <a:lnTo>
                  <a:pt x="1953" y="1321"/>
                </a:lnTo>
                <a:lnTo>
                  <a:pt x="1939" y="1303"/>
                </a:lnTo>
                <a:lnTo>
                  <a:pt x="1919" y="1288"/>
                </a:lnTo>
                <a:lnTo>
                  <a:pt x="1907" y="1282"/>
                </a:lnTo>
                <a:lnTo>
                  <a:pt x="1880" y="1275"/>
                </a:lnTo>
                <a:lnTo>
                  <a:pt x="1865" y="1273"/>
                </a:lnTo>
                <a:lnTo>
                  <a:pt x="1851" y="1277"/>
                </a:lnTo>
                <a:lnTo>
                  <a:pt x="1823" y="1296"/>
                </a:lnTo>
                <a:lnTo>
                  <a:pt x="1814" y="1306"/>
                </a:lnTo>
                <a:lnTo>
                  <a:pt x="1808" y="1317"/>
                </a:lnTo>
                <a:lnTo>
                  <a:pt x="1790" y="1372"/>
                </a:lnTo>
                <a:lnTo>
                  <a:pt x="1787" y="1428"/>
                </a:lnTo>
                <a:lnTo>
                  <a:pt x="1787" y="1463"/>
                </a:lnTo>
                <a:lnTo>
                  <a:pt x="1791" y="1495"/>
                </a:lnTo>
                <a:lnTo>
                  <a:pt x="1805" y="1555"/>
                </a:lnTo>
                <a:lnTo>
                  <a:pt x="1823" y="1613"/>
                </a:lnTo>
                <a:lnTo>
                  <a:pt x="1832" y="1642"/>
                </a:lnTo>
                <a:lnTo>
                  <a:pt x="1850" y="1674"/>
                </a:lnTo>
                <a:lnTo>
                  <a:pt x="1872" y="1706"/>
                </a:lnTo>
                <a:lnTo>
                  <a:pt x="1919" y="1766"/>
                </a:lnTo>
                <a:lnTo>
                  <a:pt x="1958" y="1811"/>
                </a:lnTo>
                <a:lnTo>
                  <a:pt x="2019" y="1866"/>
                </a:lnTo>
                <a:lnTo>
                  <a:pt x="2091" y="1897"/>
                </a:lnTo>
                <a:lnTo>
                  <a:pt x="2177" y="1922"/>
                </a:lnTo>
                <a:lnTo>
                  <a:pt x="2248" y="1932"/>
                </a:lnTo>
                <a:lnTo>
                  <a:pt x="2319" y="1937"/>
                </a:lnTo>
                <a:lnTo>
                  <a:pt x="2410" y="1933"/>
                </a:lnTo>
                <a:lnTo>
                  <a:pt x="2476" y="1923"/>
                </a:lnTo>
                <a:lnTo>
                  <a:pt x="2551" y="1911"/>
                </a:lnTo>
                <a:lnTo>
                  <a:pt x="2617" y="1897"/>
                </a:lnTo>
                <a:lnTo>
                  <a:pt x="2679" y="1882"/>
                </a:lnTo>
                <a:lnTo>
                  <a:pt x="2736" y="1867"/>
                </a:lnTo>
                <a:lnTo>
                  <a:pt x="2792" y="1850"/>
                </a:lnTo>
                <a:lnTo>
                  <a:pt x="2846" y="1831"/>
                </a:lnTo>
                <a:lnTo>
                  <a:pt x="2943" y="1794"/>
                </a:lnTo>
                <a:lnTo>
                  <a:pt x="3019" y="1759"/>
                </a:lnTo>
                <a:lnTo>
                  <a:pt x="3112" y="1700"/>
                </a:lnTo>
                <a:lnTo>
                  <a:pt x="3164" y="1663"/>
                </a:lnTo>
                <a:lnTo>
                  <a:pt x="3203" y="1629"/>
                </a:lnTo>
                <a:lnTo>
                  <a:pt x="3234" y="1598"/>
                </a:lnTo>
                <a:lnTo>
                  <a:pt x="3279" y="1539"/>
                </a:lnTo>
                <a:lnTo>
                  <a:pt x="3315" y="1480"/>
                </a:lnTo>
                <a:lnTo>
                  <a:pt x="3338" y="1421"/>
                </a:lnTo>
                <a:lnTo>
                  <a:pt x="3347" y="1392"/>
                </a:lnTo>
                <a:lnTo>
                  <a:pt x="3351" y="1347"/>
                </a:lnTo>
                <a:lnTo>
                  <a:pt x="3352" y="1293"/>
                </a:lnTo>
                <a:lnTo>
                  <a:pt x="3350" y="1231"/>
                </a:lnTo>
                <a:lnTo>
                  <a:pt x="3348" y="1180"/>
                </a:lnTo>
                <a:lnTo>
                  <a:pt x="3344" y="1135"/>
                </a:lnTo>
                <a:lnTo>
                  <a:pt x="3340" y="1094"/>
                </a:lnTo>
                <a:lnTo>
                  <a:pt x="3331" y="1054"/>
                </a:lnTo>
                <a:lnTo>
                  <a:pt x="3319" y="1014"/>
                </a:lnTo>
                <a:lnTo>
                  <a:pt x="3305" y="973"/>
                </a:lnTo>
                <a:lnTo>
                  <a:pt x="3282" y="929"/>
                </a:lnTo>
                <a:lnTo>
                  <a:pt x="3253" y="881"/>
                </a:lnTo>
                <a:lnTo>
                  <a:pt x="3221" y="832"/>
                </a:lnTo>
                <a:lnTo>
                  <a:pt x="3193" y="794"/>
                </a:lnTo>
                <a:lnTo>
                  <a:pt x="3145" y="737"/>
                </a:lnTo>
                <a:lnTo>
                  <a:pt x="3104" y="701"/>
                </a:lnTo>
                <a:lnTo>
                  <a:pt x="3084" y="688"/>
                </a:lnTo>
                <a:lnTo>
                  <a:pt x="3038" y="670"/>
                </a:lnTo>
                <a:lnTo>
                  <a:pt x="2962" y="656"/>
                </a:lnTo>
                <a:lnTo>
                  <a:pt x="2947" y="659"/>
                </a:lnTo>
                <a:lnTo>
                  <a:pt x="2920" y="671"/>
                </a:lnTo>
                <a:lnTo>
                  <a:pt x="2908" y="687"/>
                </a:lnTo>
                <a:lnTo>
                  <a:pt x="2887" y="736"/>
                </a:lnTo>
                <a:lnTo>
                  <a:pt x="2877" y="787"/>
                </a:lnTo>
                <a:lnTo>
                  <a:pt x="2873" y="838"/>
                </a:lnTo>
                <a:lnTo>
                  <a:pt x="2874" y="893"/>
                </a:lnTo>
                <a:lnTo>
                  <a:pt x="2878" y="931"/>
                </a:lnTo>
                <a:lnTo>
                  <a:pt x="2885" y="976"/>
                </a:lnTo>
                <a:lnTo>
                  <a:pt x="2892" y="1026"/>
                </a:lnTo>
                <a:lnTo>
                  <a:pt x="2900" y="1065"/>
                </a:lnTo>
                <a:lnTo>
                  <a:pt x="2916" y="1125"/>
                </a:lnTo>
                <a:lnTo>
                  <a:pt x="2936" y="1181"/>
                </a:lnTo>
                <a:lnTo>
                  <a:pt x="2947" y="1196"/>
                </a:lnTo>
                <a:lnTo>
                  <a:pt x="2978" y="1225"/>
                </a:lnTo>
                <a:lnTo>
                  <a:pt x="2997" y="1232"/>
                </a:lnTo>
                <a:lnTo>
                  <a:pt x="3016" y="1233"/>
                </a:lnTo>
                <a:lnTo>
                  <a:pt x="3036" y="1232"/>
                </a:lnTo>
                <a:lnTo>
                  <a:pt x="3059" y="1219"/>
                </a:lnTo>
                <a:lnTo>
                  <a:pt x="3111" y="1175"/>
                </a:lnTo>
                <a:lnTo>
                  <a:pt x="3155" y="1128"/>
                </a:lnTo>
                <a:lnTo>
                  <a:pt x="3174" y="1106"/>
                </a:lnTo>
                <a:lnTo>
                  <a:pt x="3204" y="1050"/>
                </a:lnTo>
                <a:lnTo>
                  <a:pt x="3218" y="1019"/>
                </a:lnTo>
                <a:lnTo>
                  <a:pt x="3232" y="979"/>
                </a:lnTo>
                <a:lnTo>
                  <a:pt x="3247" y="932"/>
                </a:lnTo>
                <a:lnTo>
                  <a:pt x="3262" y="882"/>
                </a:lnTo>
                <a:lnTo>
                  <a:pt x="3272" y="838"/>
                </a:lnTo>
                <a:lnTo>
                  <a:pt x="3279" y="797"/>
                </a:lnTo>
                <a:lnTo>
                  <a:pt x="3283" y="760"/>
                </a:lnTo>
                <a:lnTo>
                  <a:pt x="3284" y="724"/>
                </a:lnTo>
                <a:lnTo>
                  <a:pt x="3283" y="690"/>
                </a:lnTo>
                <a:lnTo>
                  <a:pt x="3281" y="656"/>
                </a:lnTo>
                <a:lnTo>
                  <a:pt x="3277" y="621"/>
                </a:lnTo>
                <a:lnTo>
                  <a:pt x="3269" y="549"/>
                </a:lnTo>
                <a:lnTo>
                  <a:pt x="3260" y="516"/>
                </a:lnTo>
                <a:lnTo>
                  <a:pt x="3247" y="483"/>
                </a:lnTo>
                <a:lnTo>
                  <a:pt x="3233" y="452"/>
                </a:lnTo>
                <a:lnTo>
                  <a:pt x="3215" y="421"/>
                </a:lnTo>
                <a:lnTo>
                  <a:pt x="3174" y="361"/>
                </a:lnTo>
                <a:lnTo>
                  <a:pt x="3139" y="323"/>
                </a:lnTo>
                <a:lnTo>
                  <a:pt x="3094" y="280"/>
                </a:lnTo>
                <a:lnTo>
                  <a:pt x="3043" y="234"/>
                </a:lnTo>
                <a:lnTo>
                  <a:pt x="2997" y="196"/>
                </a:lnTo>
                <a:lnTo>
                  <a:pt x="2955" y="163"/>
                </a:lnTo>
                <a:lnTo>
                  <a:pt x="2873" y="110"/>
                </a:lnTo>
                <a:lnTo>
                  <a:pt x="2783" y="69"/>
                </a:lnTo>
                <a:lnTo>
                  <a:pt x="2725" y="52"/>
                </a:lnTo>
                <a:lnTo>
                  <a:pt x="2659" y="37"/>
                </a:lnTo>
                <a:lnTo>
                  <a:pt x="2587" y="24"/>
                </a:lnTo>
                <a:lnTo>
                  <a:pt x="2526" y="15"/>
                </a:lnTo>
                <a:lnTo>
                  <a:pt x="2423" y="5"/>
                </a:lnTo>
                <a:lnTo>
                  <a:pt x="2328" y="1"/>
                </a:lnTo>
                <a:lnTo>
                  <a:pt x="2225" y="5"/>
                </a:lnTo>
                <a:lnTo>
                  <a:pt x="2163" y="15"/>
                </a:lnTo>
                <a:lnTo>
                  <a:pt x="2097" y="27"/>
                </a:lnTo>
                <a:lnTo>
                  <a:pt x="1999" y="51"/>
                </a:lnTo>
                <a:lnTo>
                  <a:pt x="1924" y="78"/>
                </a:lnTo>
                <a:lnTo>
                  <a:pt x="1852" y="117"/>
                </a:lnTo>
                <a:lnTo>
                  <a:pt x="1813" y="148"/>
                </a:lnTo>
                <a:lnTo>
                  <a:pt x="1774" y="186"/>
                </a:lnTo>
                <a:lnTo>
                  <a:pt x="1733" y="230"/>
                </a:lnTo>
                <a:lnTo>
                  <a:pt x="1703" y="264"/>
                </a:lnTo>
                <a:lnTo>
                  <a:pt x="1659" y="317"/>
                </a:lnTo>
                <a:lnTo>
                  <a:pt x="1635" y="358"/>
                </a:lnTo>
                <a:lnTo>
                  <a:pt x="1623" y="391"/>
                </a:lnTo>
                <a:lnTo>
                  <a:pt x="1621" y="415"/>
                </a:lnTo>
                <a:lnTo>
                  <a:pt x="1623" y="422"/>
                </a:lnTo>
                <a:lnTo>
                  <a:pt x="1627" y="427"/>
                </a:lnTo>
                <a:lnTo>
                  <a:pt x="1633" y="430"/>
                </a:lnTo>
                <a:lnTo>
                  <a:pt x="1651" y="434"/>
                </a:lnTo>
                <a:lnTo>
                  <a:pt x="1662" y="435"/>
                </a:lnTo>
                <a:lnTo>
                  <a:pt x="1745" y="423"/>
                </a:lnTo>
                <a:lnTo>
                  <a:pt x="1802" y="405"/>
                </a:lnTo>
                <a:lnTo>
                  <a:pt x="1887" y="360"/>
                </a:lnTo>
                <a:lnTo>
                  <a:pt x="2015" y="284"/>
                </a:lnTo>
                <a:lnTo>
                  <a:pt x="2086" y="237"/>
                </a:lnTo>
                <a:lnTo>
                  <a:pt x="2161" y="180"/>
                </a:lnTo>
                <a:lnTo>
                  <a:pt x="2197" y="147"/>
                </a:lnTo>
                <a:lnTo>
                  <a:pt x="2225" y="108"/>
                </a:lnTo>
                <a:lnTo>
                  <a:pt x="2240" y="77"/>
                </a:lnTo>
                <a:lnTo>
                  <a:pt x="2244" y="64"/>
                </a:lnTo>
                <a:lnTo>
                  <a:pt x="2240" y="51"/>
                </a:lnTo>
                <a:lnTo>
                  <a:pt x="2230" y="39"/>
                </a:lnTo>
                <a:lnTo>
                  <a:pt x="2203" y="19"/>
                </a:lnTo>
                <a:lnTo>
                  <a:pt x="2179" y="8"/>
                </a:lnTo>
                <a:lnTo>
                  <a:pt x="2112" y="0"/>
                </a:lnTo>
                <a:lnTo>
                  <a:pt x="2033" y="3"/>
                </a:lnTo>
                <a:lnTo>
                  <a:pt x="1869" y="15"/>
                </a:lnTo>
                <a:lnTo>
                  <a:pt x="1767" y="47"/>
                </a:lnTo>
                <a:lnTo>
                  <a:pt x="1568" y="124"/>
                </a:lnTo>
                <a:lnTo>
                  <a:pt x="1495" y="157"/>
                </a:lnTo>
                <a:lnTo>
                  <a:pt x="1462" y="173"/>
                </a:lnTo>
                <a:lnTo>
                  <a:pt x="1383" y="233"/>
                </a:lnTo>
                <a:lnTo>
                  <a:pt x="1339" y="272"/>
                </a:lnTo>
                <a:lnTo>
                  <a:pt x="1305" y="305"/>
                </a:lnTo>
                <a:lnTo>
                  <a:pt x="1252" y="360"/>
                </a:lnTo>
                <a:lnTo>
                  <a:pt x="1230" y="393"/>
                </a:lnTo>
                <a:lnTo>
                  <a:pt x="1209" y="430"/>
                </a:lnTo>
                <a:lnTo>
                  <a:pt x="1189" y="470"/>
                </a:lnTo>
                <a:lnTo>
                  <a:pt x="1166" y="526"/>
                </a:lnTo>
                <a:lnTo>
                  <a:pt x="1153" y="577"/>
                </a:lnTo>
                <a:lnTo>
                  <a:pt x="1152" y="589"/>
                </a:lnTo>
                <a:lnTo>
                  <a:pt x="1153" y="599"/>
                </a:lnTo>
                <a:lnTo>
                  <a:pt x="1157" y="607"/>
                </a:lnTo>
                <a:lnTo>
                  <a:pt x="1162" y="614"/>
                </a:lnTo>
                <a:lnTo>
                  <a:pt x="1216" y="650"/>
                </a:lnTo>
                <a:lnTo>
                  <a:pt x="1262" y="665"/>
                </a:lnTo>
                <a:lnTo>
                  <a:pt x="1285" y="669"/>
                </a:lnTo>
                <a:lnTo>
                  <a:pt x="1387" y="666"/>
                </a:lnTo>
                <a:lnTo>
                  <a:pt x="1454" y="662"/>
                </a:lnTo>
                <a:lnTo>
                  <a:pt x="1540" y="650"/>
                </a:lnTo>
                <a:lnTo>
                  <a:pt x="1619" y="629"/>
                </a:lnTo>
                <a:lnTo>
                  <a:pt x="1627" y="624"/>
                </a:lnTo>
                <a:lnTo>
                  <a:pt x="1633" y="617"/>
                </a:lnTo>
                <a:lnTo>
                  <a:pt x="1637" y="611"/>
                </a:lnTo>
                <a:lnTo>
                  <a:pt x="1632" y="600"/>
                </a:lnTo>
                <a:lnTo>
                  <a:pt x="1608" y="571"/>
                </a:lnTo>
                <a:lnTo>
                  <a:pt x="1573" y="547"/>
                </a:lnTo>
                <a:lnTo>
                  <a:pt x="1498" y="510"/>
                </a:lnTo>
                <a:lnTo>
                  <a:pt x="1399" y="490"/>
                </a:lnTo>
                <a:lnTo>
                  <a:pt x="1299" y="481"/>
                </a:lnTo>
                <a:lnTo>
                  <a:pt x="1212" y="478"/>
                </a:lnTo>
                <a:lnTo>
                  <a:pt x="1002" y="477"/>
                </a:lnTo>
                <a:lnTo>
                  <a:pt x="925" y="489"/>
                </a:lnTo>
                <a:lnTo>
                  <a:pt x="884" y="501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01920" y="596880"/>
            <a:ext cx="1296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0"/>
                </a:moveTo>
                <a:lnTo>
                  <a:pt x="8" y="8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25360" y="563400"/>
            <a:ext cx="6375600" cy="3751560"/>
          </a:xfrm>
          <a:custGeom>
            <a:avLst/>
            <a:gdLst/>
            <a:ahLst/>
            <a:rect l="l" t="t" r="r" b="b"/>
            <a:pathLst>
              <a:path w="4016" h="2363">
                <a:moveTo>
                  <a:pt x="1459" y="517"/>
                </a:moveTo>
                <a:lnTo>
                  <a:pt x="1459" y="500"/>
                </a:lnTo>
                <a:lnTo>
                  <a:pt x="1455" y="493"/>
                </a:lnTo>
                <a:lnTo>
                  <a:pt x="1442" y="481"/>
                </a:lnTo>
                <a:lnTo>
                  <a:pt x="1422" y="472"/>
                </a:lnTo>
                <a:lnTo>
                  <a:pt x="1370" y="457"/>
                </a:lnTo>
                <a:lnTo>
                  <a:pt x="1251" y="453"/>
                </a:lnTo>
                <a:lnTo>
                  <a:pt x="1205" y="457"/>
                </a:lnTo>
                <a:lnTo>
                  <a:pt x="1102" y="480"/>
                </a:lnTo>
                <a:lnTo>
                  <a:pt x="1047" y="506"/>
                </a:lnTo>
                <a:lnTo>
                  <a:pt x="972" y="559"/>
                </a:lnTo>
                <a:lnTo>
                  <a:pt x="912" y="620"/>
                </a:lnTo>
                <a:lnTo>
                  <a:pt x="850" y="692"/>
                </a:lnTo>
                <a:lnTo>
                  <a:pt x="805" y="753"/>
                </a:lnTo>
                <a:lnTo>
                  <a:pt x="772" y="817"/>
                </a:lnTo>
                <a:lnTo>
                  <a:pt x="749" y="882"/>
                </a:lnTo>
                <a:lnTo>
                  <a:pt x="739" y="944"/>
                </a:lnTo>
                <a:lnTo>
                  <a:pt x="742" y="1006"/>
                </a:lnTo>
                <a:lnTo>
                  <a:pt x="746" y="1038"/>
                </a:lnTo>
                <a:lnTo>
                  <a:pt x="770" y="1097"/>
                </a:lnTo>
                <a:lnTo>
                  <a:pt x="804" y="1152"/>
                </a:lnTo>
                <a:lnTo>
                  <a:pt x="843" y="1203"/>
                </a:lnTo>
                <a:lnTo>
                  <a:pt x="918" y="1264"/>
                </a:lnTo>
                <a:lnTo>
                  <a:pt x="1009" y="1321"/>
                </a:lnTo>
                <a:lnTo>
                  <a:pt x="1091" y="1349"/>
                </a:lnTo>
                <a:lnTo>
                  <a:pt x="1211" y="1366"/>
                </a:lnTo>
                <a:lnTo>
                  <a:pt x="1319" y="1363"/>
                </a:lnTo>
                <a:lnTo>
                  <a:pt x="1434" y="1353"/>
                </a:lnTo>
                <a:lnTo>
                  <a:pt x="1521" y="1343"/>
                </a:lnTo>
                <a:lnTo>
                  <a:pt x="1590" y="1321"/>
                </a:lnTo>
                <a:lnTo>
                  <a:pt x="1696" y="1264"/>
                </a:lnTo>
                <a:lnTo>
                  <a:pt x="1792" y="1199"/>
                </a:lnTo>
                <a:lnTo>
                  <a:pt x="1852" y="1142"/>
                </a:lnTo>
                <a:lnTo>
                  <a:pt x="1867" y="1107"/>
                </a:lnTo>
                <a:lnTo>
                  <a:pt x="1872" y="1086"/>
                </a:lnTo>
                <a:lnTo>
                  <a:pt x="1874" y="1051"/>
                </a:lnTo>
                <a:lnTo>
                  <a:pt x="1871" y="1036"/>
                </a:lnTo>
                <a:lnTo>
                  <a:pt x="1867" y="1024"/>
                </a:lnTo>
                <a:lnTo>
                  <a:pt x="1856" y="1006"/>
                </a:lnTo>
                <a:lnTo>
                  <a:pt x="1780" y="946"/>
                </a:lnTo>
                <a:lnTo>
                  <a:pt x="1696" y="899"/>
                </a:lnTo>
                <a:lnTo>
                  <a:pt x="1599" y="889"/>
                </a:lnTo>
                <a:lnTo>
                  <a:pt x="1512" y="895"/>
                </a:lnTo>
                <a:lnTo>
                  <a:pt x="1436" y="912"/>
                </a:lnTo>
                <a:lnTo>
                  <a:pt x="1380" y="955"/>
                </a:lnTo>
                <a:lnTo>
                  <a:pt x="1327" y="1011"/>
                </a:lnTo>
                <a:lnTo>
                  <a:pt x="1292" y="1057"/>
                </a:lnTo>
                <a:lnTo>
                  <a:pt x="1271" y="1103"/>
                </a:lnTo>
                <a:lnTo>
                  <a:pt x="1257" y="1171"/>
                </a:lnTo>
                <a:lnTo>
                  <a:pt x="1255" y="1193"/>
                </a:lnTo>
                <a:lnTo>
                  <a:pt x="1260" y="1236"/>
                </a:lnTo>
                <a:lnTo>
                  <a:pt x="1265" y="1258"/>
                </a:lnTo>
                <a:lnTo>
                  <a:pt x="1282" y="1296"/>
                </a:lnTo>
                <a:lnTo>
                  <a:pt x="1334" y="1368"/>
                </a:lnTo>
                <a:lnTo>
                  <a:pt x="1401" y="1432"/>
                </a:lnTo>
                <a:lnTo>
                  <a:pt x="1450" y="1462"/>
                </a:lnTo>
                <a:lnTo>
                  <a:pt x="1505" y="1481"/>
                </a:lnTo>
                <a:lnTo>
                  <a:pt x="1612" y="1498"/>
                </a:lnTo>
                <a:lnTo>
                  <a:pt x="1711" y="1493"/>
                </a:lnTo>
                <a:lnTo>
                  <a:pt x="1807" y="1469"/>
                </a:lnTo>
                <a:lnTo>
                  <a:pt x="1895" y="1434"/>
                </a:lnTo>
                <a:lnTo>
                  <a:pt x="2006" y="1378"/>
                </a:lnTo>
                <a:lnTo>
                  <a:pt x="2084" y="1331"/>
                </a:lnTo>
                <a:lnTo>
                  <a:pt x="2141" y="1274"/>
                </a:lnTo>
                <a:lnTo>
                  <a:pt x="2197" y="1204"/>
                </a:lnTo>
                <a:lnTo>
                  <a:pt x="2233" y="1140"/>
                </a:lnTo>
                <a:lnTo>
                  <a:pt x="2259" y="1081"/>
                </a:lnTo>
                <a:lnTo>
                  <a:pt x="2278" y="1018"/>
                </a:lnTo>
                <a:lnTo>
                  <a:pt x="2284" y="979"/>
                </a:lnTo>
                <a:lnTo>
                  <a:pt x="2293" y="904"/>
                </a:lnTo>
                <a:lnTo>
                  <a:pt x="2302" y="835"/>
                </a:lnTo>
                <a:lnTo>
                  <a:pt x="2301" y="811"/>
                </a:lnTo>
                <a:lnTo>
                  <a:pt x="2298" y="802"/>
                </a:lnTo>
                <a:lnTo>
                  <a:pt x="2295" y="796"/>
                </a:lnTo>
                <a:lnTo>
                  <a:pt x="2291" y="791"/>
                </a:lnTo>
                <a:lnTo>
                  <a:pt x="2284" y="788"/>
                </a:lnTo>
                <a:lnTo>
                  <a:pt x="2264" y="784"/>
                </a:lnTo>
                <a:lnTo>
                  <a:pt x="2254" y="790"/>
                </a:lnTo>
                <a:lnTo>
                  <a:pt x="2232" y="816"/>
                </a:lnTo>
                <a:lnTo>
                  <a:pt x="2218" y="849"/>
                </a:lnTo>
                <a:lnTo>
                  <a:pt x="2207" y="900"/>
                </a:lnTo>
                <a:lnTo>
                  <a:pt x="2207" y="944"/>
                </a:lnTo>
                <a:lnTo>
                  <a:pt x="2209" y="979"/>
                </a:lnTo>
                <a:lnTo>
                  <a:pt x="2217" y="1052"/>
                </a:lnTo>
                <a:lnTo>
                  <a:pt x="2230" y="1102"/>
                </a:lnTo>
                <a:lnTo>
                  <a:pt x="2249" y="1140"/>
                </a:lnTo>
                <a:lnTo>
                  <a:pt x="2260" y="1156"/>
                </a:lnTo>
                <a:lnTo>
                  <a:pt x="2301" y="1186"/>
                </a:lnTo>
                <a:lnTo>
                  <a:pt x="2350" y="1210"/>
                </a:lnTo>
                <a:lnTo>
                  <a:pt x="2389" y="1221"/>
                </a:lnTo>
                <a:lnTo>
                  <a:pt x="2407" y="1221"/>
                </a:lnTo>
                <a:lnTo>
                  <a:pt x="2441" y="1214"/>
                </a:lnTo>
                <a:lnTo>
                  <a:pt x="2546" y="1157"/>
                </a:lnTo>
                <a:lnTo>
                  <a:pt x="2645" y="1089"/>
                </a:lnTo>
                <a:lnTo>
                  <a:pt x="2727" y="1020"/>
                </a:lnTo>
                <a:lnTo>
                  <a:pt x="2787" y="954"/>
                </a:lnTo>
                <a:lnTo>
                  <a:pt x="2843" y="883"/>
                </a:lnTo>
                <a:lnTo>
                  <a:pt x="2877" y="835"/>
                </a:lnTo>
                <a:lnTo>
                  <a:pt x="2898" y="771"/>
                </a:lnTo>
                <a:lnTo>
                  <a:pt x="2907" y="735"/>
                </a:lnTo>
                <a:lnTo>
                  <a:pt x="2908" y="704"/>
                </a:lnTo>
                <a:lnTo>
                  <a:pt x="2897" y="653"/>
                </a:lnTo>
                <a:lnTo>
                  <a:pt x="2866" y="590"/>
                </a:lnTo>
                <a:lnTo>
                  <a:pt x="2820" y="539"/>
                </a:lnTo>
                <a:lnTo>
                  <a:pt x="2764" y="486"/>
                </a:lnTo>
                <a:lnTo>
                  <a:pt x="2695" y="428"/>
                </a:lnTo>
                <a:lnTo>
                  <a:pt x="2646" y="400"/>
                </a:lnTo>
                <a:lnTo>
                  <a:pt x="2529" y="364"/>
                </a:lnTo>
                <a:lnTo>
                  <a:pt x="2411" y="346"/>
                </a:lnTo>
                <a:lnTo>
                  <a:pt x="2370" y="343"/>
                </a:lnTo>
                <a:lnTo>
                  <a:pt x="2310" y="361"/>
                </a:lnTo>
                <a:lnTo>
                  <a:pt x="2246" y="390"/>
                </a:lnTo>
                <a:lnTo>
                  <a:pt x="2203" y="418"/>
                </a:lnTo>
                <a:lnTo>
                  <a:pt x="2158" y="462"/>
                </a:lnTo>
                <a:lnTo>
                  <a:pt x="2122" y="526"/>
                </a:lnTo>
                <a:lnTo>
                  <a:pt x="2109" y="564"/>
                </a:lnTo>
                <a:lnTo>
                  <a:pt x="2101" y="625"/>
                </a:lnTo>
                <a:lnTo>
                  <a:pt x="2104" y="638"/>
                </a:lnTo>
                <a:lnTo>
                  <a:pt x="2117" y="662"/>
                </a:lnTo>
                <a:lnTo>
                  <a:pt x="2124" y="669"/>
                </a:lnTo>
                <a:lnTo>
                  <a:pt x="2132" y="675"/>
                </a:lnTo>
                <a:lnTo>
                  <a:pt x="2147" y="680"/>
                </a:lnTo>
                <a:lnTo>
                  <a:pt x="2163" y="683"/>
                </a:lnTo>
                <a:lnTo>
                  <a:pt x="2200" y="680"/>
                </a:lnTo>
                <a:lnTo>
                  <a:pt x="2227" y="669"/>
                </a:lnTo>
                <a:lnTo>
                  <a:pt x="2285" y="628"/>
                </a:lnTo>
                <a:lnTo>
                  <a:pt x="2330" y="582"/>
                </a:lnTo>
                <a:lnTo>
                  <a:pt x="2378" y="525"/>
                </a:lnTo>
                <a:lnTo>
                  <a:pt x="2408" y="472"/>
                </a:lnTo>
                <a:lnTo>
                  <a:pt x="2444" y="402"/>
                </a:lnTo>
                <a:lnTo>
                  <a:pt x="2457" y="337"/>
                </a:lnTo>
                <a:lnTo>
                  <a:pt x="2460" y="298"/>
                </a:lnTo>
                <a:lnTo>
                  <a:pt x="2455" y="267"/>
                </a:lnTo>
                <a:lnTo>
                  <a:pt x="2445" y="241"/>
                </a:lnTo>
                <a:lnTo>
                  <a:pt x="2399" y="177"/>
                </a:lnTo>
                <a:lnTo>
                  <a:pt x="2382" y="157"/>
                </a:lnTo>
                <a:lnTo>
                  <a:pt x="2313" y="104"/>
                </a:lnTo>
                <a:lnTo>
                  <a:pt x="2227" y="52"/>
                </a:lnTo>
                <a:lnTo>
                  <a:pt x="2114" y="19"/>
                </a:lnTo>
                <a:lnTo>
                  <a:pt x="2006" y="4"/>
                </a:lnTo>
                <a:lnTo>
                  <a:pt x="1914" y="0"/>
                </a:lnTo>
                <a:lnTo>
                  <a:pt x="1809" y="6"/>
                </a:lnTo>
                <a:lnTo>
                  <a:pt x="1753" y="27"/>
                </a:lnTo>
                <a:lnTo>
                  <a:pt x="1705" y="56"/>
                </a:lnTo>
                <a:lnTo>
                  <a:pt x="1669" y="90"/>
                </a:lnTo>
                <a:lnTo>
                  <a:pt x="1632" y="144"/>
                </a:lnTo>
                <a:lnTo>
                  <a:pt x="1597" y="212"/>
                </a:lnTo>
                <a:lnTo>
                  <a:pt x="1579" y="260"/>
                </a:lnTo>
                <a:lnTo>
                  <a:pt x="1572" y="326"/>
                </a:lnTo>
                <a:lnTo>
                  <a:pt x="1573" y="332"/>
                </a:lnTo>
                <a:lnTo>
                  <a:pt x="1574" y="334"/>
                </a:lnTo>
                <a:lnTo>
                  <a:pt x="1576" y="334"/>
                </a:lnTo>
                <a:lnTo>
                  <a:pt x="1578" y="331"/>
                </a:lnTo>
                <a:lnTo>
                  <a:pt x="1582" y="320"/>
                </a:lnTo>
                <a:lnTo>
                  <a:pt x="1586" y="278"/>
                </a:lnTo>
                <a:lnTo>
                  <a:pt x="1582" y="248"/>
                </a:lnTo>
                <a:lnTo>
                  <a:pt x="1578" y="234"/>
                </a:lnTo>
                <a:lnTo>
                  <a:pt x="1573" y="222"/>
                </a:lnTo>
                <a:lnTo>
                  <a:pt x="1560" y="205"/>
                </a:lnTo>
                <a:lnTo>
                  <a:pt x="1455" y="140"/>
                </a:lnTo>
                <a:lnTo>
                  <a:pt x="1404" y="116"/>
                </a:lnTo>
                <a:lnTo>
                  <a:pt x="1319" y="95"/>
                </a:lnTo>
                <a:lnTo>
                  <a:pt x="1196" y="84"/>
                </a:lnTo>
                <a:lnTo>
                  <a:pt x="1087" y="83"/>
                </a:lnTo>
                <a:lnTo>
                  <a:pt x="984" y="106"/>
                </a:lnTo>
                <a:lnTo>
                  <a:pt x="889" y="143"/>
                </a:lnTo>
                <a:lnTo>
                  <a:pt x="790" y="187"/>
                </a:lnTo>
                <a:lnTo>
                  <a:pt x="698" y="246"/>
                </a:lnTo>
                <a:lnTo>
                  <a:pt x="646" y="293"/>
                </a:lnTo>
                <a:lnTo>
                  <a:pt x="592" y="365"/>
                </a:lnTo>
                <a:lnTo>
                  <a:pt x="563" y="407"/>
                </a:lnTo>
                <a:lnTo>
                  <a:pt x="518" y="481"/>
                </a:lnTo>
                <a:lnTo>
                  <a:pt x="483" y="544"/>
                </a:lnTo>
                <a:lnTo>
                  <a:pt x="458" y="595"/>
                </a:lnTo>
                <a:lnTo>
                  <a:pt x="433" y="660"/>
                </a:lnTo>
                <a:lnTo>
                  <a:pt x="423" y="706"/>
                </a:lnTo>
                <a:lnTo>
                  <a:pt x="420" y="750"/>
                </a:lnTo>
                <a:lnTo>
                  <a:pt x="424" y="779"/>
                </a:lnTo>
                <a:lnTo>
                  <a:pt x="441" y="830"/>
                </a:lnTo>
                <a:lnTo>
                  <a:pt x="448" y="838"/>
                </a:lnTo>
                <a:lnTo>
                  <a:pt x="456" y="845"/>
                </a:lnTo>
                <a:lnTo>
                  <a:pt x="465" y="850"/>
                </a:lnTo>
                <a:lnTo>
                  <a:pt x="485" y="856"/>
                </a:lnTo>
                <a:lnTo>
                  <a:pt x="506" y="858"/>
                </a:lnTo>
                <a:lnTo>
                  <a:pt x="530" y="856"/>
                </a:lnTo>
                <a:lnTo>
                  <a:pt x="538" y="850"/>
                </a:lnTo>
                <a:lnTo>
                  <a:pt x="542" y="842"/>
                </a:lnTo>
                <a:lnTo>
                  <a:pt x="543" y="833"/>
                </a:lnTo>
                <a:lnTo>
                  <a:pt x="540" y="823"/>
                </a:lnTo>
                <a:lnTo>
                  <a:pt x="534" y="815"/>
                </a:lnTo>
                <a:lnTo>
                  <a:pt x="525" y="806"/>
                </a:lnTo>
                <a:lnTo>
                  <a:pt x="516" y="800"/>
                </a:lnTo>
                <a:lnTo>
                  <a:pt x="500" y="794"/>
                </a:lnTo>
                <a:lnTo>
                  <a:pt x="441" y="790"/>
                </a:lnTo>
                <a:lnTo>
                  <a:pt x="401" y="799"/>
                </a:lnTo>
                <a:lnTo>
                  <a:pt x="383" y="806"/>
                </a:lnTo>
                <a:lnTo>
                  <a:pt x="328" y="846"/>
                </a:lnTo>
                <a:lnTo>
                  <a:pt x="274" y="901"/>
                </a:lnTo>
                <a:lnTo>
                  <a:pt x="216" y="968"/>
                </a:lnTo>
                <a:lnTo>
                  <a:pt x="172" y="1027"/>
                </a:lnTo>
                <a:lnTo>
                  <a:pt x="135" y="1085"/>
                </a:lnTo>
                <a:lnTo>
                  <a:pt x="97" y="1157"/>
                </a:lnTo>
                <a:lnTo>
                  <a:pt x="75" y="1209"/>
                </a:lnTo>
                <a:lnTo>
                  <a:pt x="51" y="1266"/>
                </a:lnTo>
                <a:lnTo>
                  <a:pt x="34" y="1315"/>
                </a:lnTo>
                <a:lnTo>
                  <a:pt x="22" y="1358"/>
                </a:lnTo>
                <a:lnTo>
                  <a:pt x="13" y="1398"/>
                </a:lnTo>
                <a:lnTo>
                  <a:pt x="3" y="1470"/>
                </a:lnTo>
                <a:lnTo>
                  <a:pt x="0" y="1505"/>
                </a:lnTo>
                <a:lnTo>
                  <a:pt x="5" y="1545"/>
                </a:lnTo>
                <a:lnTo>
                  <a:pt x="14" y="1590"/>
                </a:lnTo>
                <a:lnTo>
                  <a:pt x="26" y="1638"/>
                </a:lnTo>
                <a:lnTo>
                  <a:pt x="57" y="1702"/>
                </a:lnTo>
                <a:lnTo>
                  <a:pt x="110" y="1776"/>
                </a:lnTo>
                <a:lnTo>
                  <a:pt x="148" y="1802"/>
                </a:lnTo>
                <a:lnTo>
                  <a:pt x="222" y="1834"/>
                </a:lnTo>
                <a:lnTo>
                  <a:pt x="268" y="1842"/>
                </a:lnTo>
                <a:lnTo>
                  <a:pt x="333" y="1843"/>
                </a:lnTo>
                <a:lnTo>
                  <a:pt x="353" y="1840"/>
                </a:lnTo>
                <a:lnTo>
                  <a:pt x="357" y="1842"/>
                </a:lnTo>
                <a:lnTo>
                  <a:pt x="358" y="1846"/>
                </a:lnTo>
                <a:lnTo>
                  <a:pt x="350" y="1898"/>
                </a:lnTo>
                <a:lnTo>
                  <a:pt x="348" y="1950"/>
                </a:lnTo>
                <a:lnTo>
                  <a:pt x="352" y="2023"/>
                </a:lnTo>
                <a:lnTo>
                  <a:pt x="362" y="2089"/>
                </a:lnTo>
                <a:lnTo>
                  <a:pt x="386" y="2151"/>
                </a:lnTo>
                <a:lnTo>
                  <a:pt x="419" y="2217"/>
                </a:lnTo>
                <a:lnTo>
                  <a:pt x="465" y="2279"/>
                </a:lnTo>
                <a:lnTo>
                  <a:pt x="490" y="2310"/>
                </a:lnTo>
                <a:lnTo>
                  <a:pt x="512" y="2323"/>
                </a:lnTo>
                <a:lnTo>
                  <a:pt x="571" y="2345"/>
                </a:lnTo>
                <a:lnTo>
                  <a:pt x="679" y="2361"/>
                </a:lnTo>
                <a:lnTo>
                  <a:pt x="725" y="2363"/>
                </a:lnTo>
                <a:lnTo>
                  <a:pt x="834" y="2330"/>
                </a:lnTo>
                <a:lnTo>
                  <a:pt x="933" y="2289"/>
                </a:lnTo>
                <a:lnTo>
                  <a:pt x="1049" y="2228"/>
                </a:lnTo>
                <a:lnTo>
                  <a:pt x="1139" y="2155"/>
                </a:lnTo>
                <a:lnTo>
                  <a:pt x="1203" y="2085"/>
                </a:lnTo>
                <a:lnTo>
                  <a:pt x="1222" y="2058"/>
                </a:lnTo>
                <a:lnTo>
                  <a:pt x="1233" y="2032"/>
                </a:lnTo>
                <a:lnTo>
                  <a:pt x="1234" y="2024"/>
                </a:lnTo>
                <a:lnTo>
                  <a:pt x="1234" y="2022"/>
                </a:lnTo>
                <a:lnTo>
                  <a:pt x="1232" y="2021"/>
                </a:lnTo>
                <a:lnTo>
                  <a:pt x="1229" y="2038"/>
                </a:lnTo>
                <a:lnTo>
                  <a:pt x="1227" y="2090"/>
                </a:lnTo>
                <a:lnTo>
                  <a:pt x="1241" y="2127"/>
                </a:lnTo>
                <a:lnTo>
                  <a:pt x="1263" y="2163"/>
                </a:lnTo>
                <a:lnTo>
                  <a:pt x="1281" y="2185"/>
                </a:lnTo>
                <a:lnTo>
                  <a:pt x="1303" y="2201"/>
                </a:lnTo>
                <a:lnTo>
                  <a:pt x="1315" y="2208"/>
                </a:lnTo>
                <a:lnTo>
                  <a:pt x="1387" y="2221"/>
                </a:lnTo>
                <a:lnTo>
                  <a:pt x="1469" y="2227"/>
                </a:lnTo>
                <a:lnTo>
                  <a:pt x="1558" y="2209"/>
                </a:lnTo>
                <a:lnTo>
                  <a:pt x="1661" y="2178"/>
                </a:lnTo>
                <a:lnTo>
                  <a:pt x="1785" y="2126"/>
                </a:lnTo>
                <a:lnTo>
                  <a:pt x="1909" y="2063"/>
                </a:lnTo>
                <a:lnTo>
                  <a:pt x="2018" y="1996"/>
                </a:lnTo>
                <a:lnTo>
                  <a:pt x="2102" y="1940"/>
                </a:lnTo>
                <a:lnTo>
                  <a:pt x="2187" y="1878"/>
                </a:lnTo>
                <a:lnTo>
                  <a:pt x="2272" y="1809"/>
                </a:lnTo>
                <a:lnTo>
                  <a:pt x="2306" y="1789"/>
                </a:lnTo>
                <a:lnTo>
                  <a:pt x="2319" y="1784"/>
                </a:lnTo>
                <a:lnTo>
                  <a:pt x="2331" y="1786"/>
                </a:lnTo>
                <a:lnTo>
                  <a:pt x="2342" y="1794"/>
                </a:lnTo>
                <a:lnTo>
                  <a:pt x="2397" y="1863"/>
                </a:lnTo>
                <a:lnTo>
                  <a:pt x="2462" y="1942"/>
                </a:lnTo>
                <a:lnTo>
                  <a:pt x="2485" y="1970"/>
                </a:lnTo>
                <a:lnTo>
                  <a:pt x="2500" y="1984"/>
                </a:lnTo>
                <a:lnTo>
                  <a:pt x="2544" y="2006"/>
                </a:lnTo>
                <a:lnTo>
                  <a:pt x="2576" y="2014"/>
                </a:lnTo>
                <a:lnTo>
                  <a:pt x="2636" y="2020"/>
                </a:lnTo>
                <a:lnTo>
                  <a:pt x="2677" y="2006"/>
                </a:lnTo>
                <a:lnTo>
                  <a:pt x="2835" y="1928"/>
                </a:lnTo>
                <a:lnTo>
                  <a:pt x="2922" y="1859"/>
                </a:lnTo>
                <a:lnTo>
                  <a:pt x="3010" y="1785"/>
                </a:lnTo>
                <a:lnTo>
                  <a:pt x="3059" y="1714"/>
                </a:lnTo>
                <a:lnTo>
                  <a:pt x="3103" y="1660"/>
                </a:lnTo>
                <a:lnTo>
                  <a:pt x="3140" y="1591"/>
                </a:lnTo>
                <a:lnTo>
                  <a:pt x="3166" y="1538"/>
                </a:lnTo>
                <a:lnTo>
                  <a:pt x="3188" y="1505"/>
                </a:lnTo>
                <a:lnTo>
                  <a:pt x="3201" y="1493"/>
                </a:lnTo>
                <a:lnTo>
                  <a:pt x="3210" y="1488"/>
                </a:lnTo>
                <a:lnTo>
                  <a:pt x="3238" y="1482"/>
                </a:lnTo>
                <a:lnTo>
                  <a:pt x="3310" y="1469"/>
                </a:lnTo>
                <a:lnTo>
                  <a:pt x="3404" y="1421"/>
                </a:lnTo>
                <a:lnTo>
                  <a:pt x="3496" y="1359"/>
                </a:lnTo>
                <a:lnTo>
                  <a:pt x="3557" y="1305"/>
                </a:lnTo>
                <a:lnTo>
                  <a:pt x="3589" y="1274"/>
                </a:lnTo>
                <a:lnTo>
                  <a:pt x="3739" y="1121"/>
                </a:lnTo>
                <a:lnTo>
                  <a:pt x="3784" y="1071"/>
                </a:lnTo>
                <a:lnTo>
                  <a:pt x="3822" y="1028"/>
                </a:lnTo>
                <a:lnTo>
                  <a:pt x="3856" y="988"/>
                </a:lnTo>
                <a:lnTo>
                  <a:pt x="3910" y="918"/>
                </a:lnTo>
                <a:lnTo>
                  <a:pt x="3933" y="886"/>
                </a:lnTo>
                <a:lnTo>
                  <a:pt x="3954" y="844"/>
                </a:lnTo>
                <a:lnTo>
                  <a:pt x="3973" y="795"/>
                </a:lnTo>
                <a:lnTo>
                  <a:pt x="3991" y="743"/>
                </a:lnTo>
                <a:lnTo>
                  <a:pt x="4003" y="700"/>
                </a:lnTo>
                <a:lnTo>
                  <a:pt x="4016" y="634"/>
                </a:lnTo>
                <a:lnTo>
                  <a:pt x="4016" y="608"/>
                </a:lnTo>
                <a:lnTo>
                  <a:pt x="4007" y="561"/>
                </a:lnTo>
                <a:lnTo>
                  <a:pt x="3979" y="508"/>
                </a:lnTo>
                <a:lnTo>
                  <a:pt x="3930" y="440"/>
                </a:lnTo>
                <a:lnTo>
                  <a:pt x="3905" y="414"/>
                </a:lnTo>
                <a:lnTo>
                  <a:pt x="3882" y="397"/>
                </a:lnTo>
                <a:lnTo>
                  <a:pt x="3853" y="386"/>
                </a:lnTo>
                <a:lnTo>
                  <a:pt x="3836" y="381"/>
                </a:lnTo>
                <a:lnTo>
                  <a:pt x="3822" y="380"/>
                </a:lnTo>
                <a:lnTo>
                  <a:pt x="3800" y="384"/>
                </a:lnTo>
                <a:lnTo>
                  <a:pt x="3793" y="389"/>
                </a:lnTo>
                <a:lnTo>
                  <a:pt x="3788" y="396"/>
                </a:lnTo>
                <a:lnTo>
                  <a:pt x="3785" y="405"/>
                </a:lnTo>
                <a:lnTo>
                  <a:pt x="3781" y="442"/>
                </a:lnTo>
                <a:lnTo>
                  <a:pt x="3782" y="462"/>
                </a:lnTo>
                <a:lnTo>
                  <a:pt x="3790" y="493"/>
                </a:lnTo>
                <a:lnTo>
                  <a:pt x="3795" y="498"/>
                </a:lnTo>
                <a:lnTo>
                  <a:pt x="3800" y="502"/>
                </a:lnTo>
                <a:lnTo>
                  <a:pt x="3806" y="504"/>
                </a:lnTo>
                <a:lnTo>
                  <a:pt x="3811" y="503"/>
                </a:lnTo>
                <a:lnTo>
                  <a:pt x="3816" y="500"/>
                </a:lnTo>
                <a:lnTo>
                  <a:pt x="3826" y="488"/>
                </a:lnTo>
                <a:lnTo>
                  <a:pt x="3846" y="471"/>
                </a:lnTo>
                <a:lnTo>
                  <a:pt x="3853" y="461"/>
                </a:lnTo>
                <a:lnTo>
                  <a:pt x="3861" y="441"/>
                </a:lnTo>
                <a:lnTo>
                  <a:pt x="3859" y="429"/>
                </a:lnTo>
                <a:lnTo>
                  <a:pt x="3848" y="402"/>
                </a:lnTo>
                <a:lnTo>
                  <a:pt x="3838" y="389"/>
                </a:lnTo>
                <a:lnTo>
                  <a:pt x="3813" y="369"/>
                </a:lnTo>
                <a:lnTo>
                  <a:pt x="3761" y="338"/>
                </a:lnTo>
                <a:lnTo>
                  <a:pt x="3649" y="306"/>
                </a:lnTo>
                <a:lnTo>
                  <a:pt x="3546" y="283"/>
                </a:lnTo>
                <a:lnTo>
                  <a:pt x="3438" y="273"/>
                </a:lnTo>
                <a:lnTo>
                  <a:pt x="3351" y="271"/>
                </a:lnTo>
                <a:lnTo>
                  <a:pt x="3234" y="277"/>
                </a:lnTo>
                <a:lnTo>
                  <a:pt x="3177" y="290"/>
                </a:lnTo>
                <a:lnTo>
                  <a:pt x="3126" y="311"/>
                </a:lnTo>
                <a:lnTo>
                  <a:pt x="3081" y="342"/>
                </a:lnTo>
                <a:lnTo>
                  <a:pt x="3045" y="377"/>
                </a:lnTo>
                <a:lnTo>
                  <a:pt x="3023" y="407"/>
                </a:lnTo>
                <a:lnTo>
                  <a:pt x="3012" y="431"/>
                </a:lnTo>
                <a:lnTo>
                  <a:pt x="3007" y="451"/>
                </a:lnTo>
                <a:lnTo>
                  <a:pt x="3005" y="472"/>
                </a:lnTo>
                <a:lnTo>
                  <a:pt x="3006" y="481"/>
                </a:lnTo>
                <a:lnTo>
                  <a:pt x="3012" y="495"/>
                </a:lnTo>
                <a:lnTo>
                  <a:pt x="3021" y="505"/>
                </a:lnTo>
                <a:lnTo>
                  <a:pt x="3025" y="509"/>
                </a:lnTo>
                <a:lnTo>
                  <a:pt x="3033" y="512"/>
                </a:lnTo>
                <a:lnTo>
                  <a:pt x="3053" y="515"/>
                </a:lnTo>
                <a:lnTo>
                  <a:pt x="3064" y="513"/>
                </a:lnTo>
                <a:lnTo>
                  <a:pt x="3095" y="498"/>
                </a:lnTo>
                <a:lnTo>
                  <a:pt x="3113" y="488"/>
                </a:lnTo>
                <a:lnTo>
                  <a:pt x="3147" y="450"/>
                </a:lnTo>
                <a:lnTo>
                  <a:pt x="3160" y="427"/>
                </a:lnTo>
                <a:lnTo>
                  <a:pt x="3166" y="405"/>
                </a:lnTo>
                <a:lnTo>
                  <a:pt x="3169" y="365"/>
                </a:lnTo>
                <a:lnTo>
                  <a:pt x="3166" y="345"/>
                </a:lnTo>
                <a:lnTo>
                  <a:pt x="3162" y="336"/>
                </a:lnTo>
                <a:lnTo>
                  <a:pt x="3151" y="322"/>
                </a:lnTo>
                <a:lnTo>
                  <a:pt x="3109" y="292"/>
                </a:lnTo>
                <a:lnTo>
                  <a:pt x="3078" y="279"/>
                </a:lnTo>
                <a:lnTo>
                  <a:pt x="3047" y="273"/>
                </a:lnTo>
                <a:lnTo>
                  <a:pt x="2925" y="269"/>
                </a:lnTo>
                <a:lnTo>
                  <a:pt x="2886" y="272"/>
                </a:lnTo>
                <a:lnTo>
                  <a:pt x="2845" y="282"/>
                </a:lnTo>
                <a:lnTo>
                  <a:pt x="2781" y="311"/>
                </a:lnTo>
                <a:lnTo>
                  <a:pt x="2692" y="369"/>
                </a:lnTo>
                <a:lnTo>
                  <a:pt x="2646" y="410"/>
                </a:lnTo>
                <a:lnTo>
                  <a:pt x="2601" y="468"/>
                </a:lnTo>
                <a:lnTo>
                  <a:pt x="2565" y="532"/>
                </a:lnTo>
                <a:lnTo>
                  <a:pt x="2553" y="556"/>
                </a:lnTo>
                <a:lnTo>
                  <a:pt x="2554" y="566"/>
                </a:lnTo>
                <a:lnTo>
                  <a:pt x="2562" y="567"/>
                </a:lnTo>
                <a:lnTo>
                  <a:pt x="2587" y="554"/>
                </a:lnTo>
                <a:lnTo>
                  <a:pt x="2655" y="496"/>
                </a:lnTo>
                <a:lnTo>
                  <a:pt x="2658" y="489"/>
                </a:lnTo>
                <a:lnTo>
                  <a:pt x="2657" y="485"/>
                </a:lnTo>
                <a:lnTo>
                  <a:pt x="2652" y="482"/>
                </a:lnTo>
                <a:lnTo>
                  <a:pt x="2635" y="479"/>
                </a:lnTo>
                <a:lnTo>
                  <a:pt x="2614" y="479"/>
                </a:lnTo>
                <a:lnTo>
                  <a:pt x="2592" y="482"/>
                </a:lnTo>
                <a:lnTo>
                  <a:pt x="2583" y="485"/>
                </a:lnTo>
                <a:lnTo>
                  <a:pt x="2485" y="552"/>
                </a:lnTo>
                <a:lnTo>
                  <a:pt x="2419" y="6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06640" y="1297080"/>
            <a:ext cx="2512800" cy="393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02400" y="2197080"/>
            <a:ext cx="1706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- 16"/>
              </a:rPr>
              <a:t>dfgdfdfghdg'v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- 16"/>
              </a:rPr>
              <a:t>bbnmb,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- 16"/>
              </a:rPr>
              <a:t>bnbnmbmb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0:22:56Z</dcterms:created>
  <dc:creator>Frank Noschese</dc:creator>
  <dc:description/>
  <dc:language>en-US</dc:language>
  <cp:lastModifiedBy>Frank Noschese</cp:lastModifiedBy>
  <dcterms:modified xsi:type="dcterms:W3CDTF">2009-10-15T10:22:58Z</dcterms:modified>
  <cp:revision>1</cp:revision>
  <dc:subject/>
  <dc:title>Slide 1</dc:title>
</cp:coreProperties>
</file>